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19D-7A36-4075-B21B-8FA600EA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D3B-F700-4C7C-86E6-130BD7C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6A8-0B17-4AF2-9E8B-6503AE4A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0B6-A581-4754-A1C1-89E4C817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8A6E-47A9-457C-8DD0-1F4A9094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FE6-6791-488D-B166-BB3AF32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1426-D25D-484C-9F45-28EE0BF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7CE-04D0-4848-98E1-9555B46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3858-3B0B-48BF-98A4-94641FA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117-01AF-4644-8A05-1B417F0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97C-AECA-48F4-9159-052AC95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05B-CE4F-45FC-BAFE-DFA96A4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EDC0-5DF5-494B-AD1F-1500D46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E66-6EED-4327-BC56-508BEF2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70D2-C02D-479A-91EA-750D368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C080-5A3E-4A01-9027-007F6882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9965-FA9E-4AD2-8CEB-E30E93B6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E52-E5AD-4570-A724-2BF197E9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D5E-520A-454A-B415-659052A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904-B837-4D36-A1B4-D91C962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A92-DA2D-4126-8472-323B394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147-A1CC-4A7A-910A-BDD0484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90B-A3CC-44EA-87AC-38A4825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5F8-9508-4FCF-9AC0-F291396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D0F-CE10-4D2E-80A3-189284DE6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99C-A9E5-47D6-A9F7-18EC79CFC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mystica.com/mystica/articles/m/meditation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roma.org/images/mcmanus_images/paula_chabot/engineering/pcengin.16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Arial"/>
              </a:rPr>
              <a:t>By the Waters of Babyl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g. 1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UBTREAS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Sub Treasury in New Yo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now called Federal Hall National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Federal Hall National Memorial"/>
          <p:cNvPicPr/>
          <p:nvPr/>
        </p:nvPicPr>
        <p:blipFill>
          <a:blip r:embed="rId2"/>
          <a:stretch/>
        </p:blipFill>
        <p:spPr>
          <a:xfrm>
            <a:off x="1981080" y="2971800"/>
            <a:ext cx="54104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shing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 Statue of George Washington in Union Square, New York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265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temple with the stars for a roof was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ceiling at Grand Centra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33526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Who do you think the dead god sitting in the chair w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s was a fantasy story; but several things, although they sounded odd, were based in reality.  Some examples are…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. Priests, chants and sp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. A purific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. Interpreting animals as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. Cultures in the future having less knowledge than cultures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Cherokee have similar chants, spells, and danc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Cherokee had many lively dances.  In the uka dance, the chief, or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uka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himself offered thanksgiving in a spirit of rejo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Priests, Chants and Spel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27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 Purification proces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8377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ome Native Americans also have a purification proces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individual goes alone into the wilderness to a sacred place where he fasts, thirsts, smokes tobacco, prays, and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editates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for a 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Vision quests are mostly undertaken by males usually when entering puberty, but sometimes in childh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y also have maturity rituals, sometimes called vision 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Young boys before or at puberty are encouraged to enter into a period of fasting, meditation and physical challenge. He separates himself from the tribe and go to a wilderness area. The goal is to receive a vision that will guide his development for the rest of his life. They also seek to acquire a guardian spirit who will be close and supportive for their life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8120" y="4516560"/>
            <a:ext cx="312084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Interpreting animals as sig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In the Cherokee religion,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Eagle, flying toward the East, is a symbol of strength, endurance and vision. East signifies the renewal of life and the rebirth of Cherokee unity.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lso, Egyptians believed cats to be sacred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When a cat died their former owners and occupants of the house wou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go into deep mourning and shave their eyebrows as a sign of grief.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are not the only mummies in Egypt, as the cat was also mummi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ats were not only protected by almost every occupant of Egypt, but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by the law. So extreme in fact was the devoutness of the Egyptian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o the cat, that if a human killed a feline, either intentionally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unintentionally, that human was sentenced to dea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38096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324480" y="4343400"/>
            <a:ext cx="12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ultures in the future having less knowledge than cultures in the past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oman bath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athhouses also had larg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ublic latrines</a:t>
            </a: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, often with marble seats over channels whose continuous flow of water constituted the first “flush toil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Pay attention to the setting and ask yourself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Is this story set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Or the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2743200" cy="401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3505320"/>
            <a:ext cx="472284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28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This was in 117 A.D.  Let’s check out the early 1900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2,000 years later, their toilets looked like thi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2009520" cy="256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4952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ually the father of the family dug a new hole a few feet from the outhouse, moved it onto the new hole, then took the dirt and filled in the old hole. However, I know an uncle who got in there with a shovel because he didn't feel like digging a new hole.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What about the concept of fligh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etween 1899 and 1905 A.D., the Wright brothers conducted a program of aeronautical research and experimentation that led to the first successful powered airplane in 19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Preparing the plane for takeoff"/>
          <p:cNvPicPr/>
          <p:nvPr/>
        </p:nvPicPr>
        <p:blipFill>
          <a:blip r:embed="rId2"/>
          <a:stretch/>
        </p:blipFill>
        <p:spPr>
          <a:xfrm>
            <a:off x="2590920" y="41911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But the actual concept of flight is much, much old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27800" cy="2451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5562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These are in ancient 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the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4102200" cy="1307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905120" y="3352680"/>
            <a:ext cx="3962160" cy="1497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117880" y="5294160"/>
            <a:ext cx="37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Helicopter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02320" cy="2031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4419360" cy="230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33720" y="5638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Gl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se carvings were made at least  3,000 years BEFORE the Wright Brothers took their first fligh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12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What about homes?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se were the homes built and used in early James town in the 1700’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Img461530265" descr="Jamestown"/>
          <p:cNvPicPr/>
          <p:nvPr/>
        </p:nvPicPr>
        <p:blipFill>
          <a:blip r:embed="rId2"/>
          <a:stretch/>
        </p:blipFill>
        <p:spPr>
          <a:xfrm>
            <a:off x="1447920" y="2590920"/>
            <a:ext cx="614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se, are the pyramids of Giza, constructed some time around 2600 B.C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6350040" cy="2793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Egypt's 4th Dynasty"/>
          <p:cNvPicPr/>
          <p:nvPr/>
        </p:nvPicPr>
        <p:blipFill>
          <a:blip r:embed="rId3"/>
          <a:stretch/>
        </p:blipFill>
        <p:spPr>
          <a:xfrm>
            <a:off x="0" y="2286000"/>
            <a:ext cx="2189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is is the construction of the insid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833560" cy="1931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00400" y="2133720"/>
            <a:ext cx="2693880" cy="396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lso, write these words down and after the story, see if you can figure out what they mea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. Dead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. The Great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. Old books &amp; wri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4. Old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5. Place of the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6. God-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7. Ou-dis-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8. Bitte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9. UBT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0. 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1. The temple with the                      stars for a 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2. The dea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4662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se pyramids are at least 4,000 OLDER than the Jamestown settl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Dead Places were…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Houses or dwellings of humans who died a long time ag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Great River, Ou-dis-sun wa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Hudson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5867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Old Books and Writings wer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Books written in English that existed before our society was destr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Old Days wer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days before The Great Burning, our “present da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 God Roads wer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Concrete roads we used to u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 Bitter Water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282760"/>
            <a:ext cx="76201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Place of the Gods was…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ew York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21:19Z</dcterms:created>
  <dc:creator>Ktull</dc:creator>
  <dc:description/>
  <dc:language>en-US</dc:language>
  <cp:lastModifiedBy>Parkland High School</cp:lastModifiedBy>
  <dcterms:modified xsi:type="dcterms:W3CDTF">2011-05-11T16:49:09Z</dcterms:modified>
  <cp:revision>30</cp:revision>
  <dc:subject/>
  <dc:title>By the Waters of Babylon</dc:title>
</cp:coreProperties>
</file>